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EEF2-FA8B-47CB-8CFE-7EC4ADCD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A32-F814-4EB6-AC8C-E8E79D87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1126-4775-4FB6-B975-0A499DCC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53AF-90C5-4B36-B623-29C8BC2C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BF8-A45B-443C-8260-698612C2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EC5-2DF9-4426-952A-E8FA10DB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AEB-29E5-4BCF-A12E-7F61575F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39D-B219-4DC1-96F7-89750B60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4139-23C7-4B21-A271-C4945D52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F03F-F63A-4E13-BF2E-505EC19D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B4A-2C23-46BD-A7E8-490EF5EE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DB9C-9551-4E49-9BD9-04FD5AB4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F8A6-745E-400D-87D5-AABBBA600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quistador and Columbian civiliz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Abbie Coll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ztecs were surprised when the saw Cortez and his men because they never seen horses bef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ztecs were polytheistic that believed in many gods and honor the gods name is  Quetzacoatl  who was a pale skinned man that the Aztecs thought he was Cort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ztecs lived in central Mex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ochtitlan, their capital city,  was an unusual city because it was build in a middle of a l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ztecs caught the smallp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4176720" cy="2603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94560" y="365688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.calpoly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95680" y="3962520"/>
            <a:ext cx="4286520" cy="2390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89640" y="649044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kirita.blog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yas lived in Yucatan Peninsula Mexican co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yas were also polytheistic (believes in many god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gion did not contain as much g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yas had slaves who sometimes gain their freedo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rot="333000">
            <a:off x="5029200" y="1295280"/>
            <a:ext cx="3867120" cy="2519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21420600">
            <a:off x="6022080" y="38091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k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 rot="20632200">
            <a:off x="5334120" y="4419360"/>
            <a:ext cx="2409840" cy="1895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20457000">
            <a:off x="6327000" y="63237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.ucsb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s lived in South America and lived in the Andes 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pital was Cuz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as were polytheistic that believed in many go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practice animal sacrifice and on special occasion humans and children were sacrific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s were in a Civil War when Pizarro toke over the Incas in 1531(Civil War is fighting with two or more groups  in the same count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s were Conquistadors who conquers (takes by forc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10080" y="60948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479280" y="342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s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343400" y="3809880"/>
            <a:ext cx="2260440" cy="2676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270680" y="6490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rdon.wiki.ccsd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z took Montezuma  hostage  and was killed  and Montezuma was the Aztecs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z traveled with about 500 men and 16 horses to overcome the Aztecs in 151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ztecs leader Montezuma invited Cortez thinking he was Quetzalcoat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ed  with 180 men and 27 horses to Peru the inc as civ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zarro could take over the Incas eas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arro wanted a room would be filled with gold and silver and the Atahulalpa would be ret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457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 (Where do we see the lasting effect of these conquistadors even in 2011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18288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3505320"/>
            <a:ext cx="63248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panish explorers and conquistadors changed the Central and South America forever because now a lot of the Central and South America speaks Spanish. Most of the people are Christians and don’t believe in their native g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46:10Z</dcterms:created>
  <dc:creator>jklib</dc:creator>
  <dc:description/>
  <dc:language>en-US</dc:language>
  <cp:lastModifiedBy>jklib</cp:lastModifiedBy>
  <dcterms:modified xsi:type="dcterms:W3CDTF">2011-11-29T16:21:02Z</dcterms:modified>
  <cp:revision>6</cp:revision>
  <dc:subject/>
  <dc:title>Conquistador and Columbian civilizations </dc:title>
</cp:coreProperties>
</file>